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5B66-6704-4D28-8A26-6065BF0AE7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3E68-1FC1-4EC0-928B-8338F9E7DD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92CA-A178-440E-B33B-2A81F9F30F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8A03-4D3F-4343-A969-0EA6C9CB33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04A4-8942-47A2-A74F-49C0F894C5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1B14-BB28-44FD-A67A-D4DE4F1353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C2F1-DC86-4F66-98CC-2C85AB6DEA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87BF-2CDA-4AEB-B948-68C2FCCAD1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B819-A436-4B40-831B-19AE0E4EA6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7896-6E96-498D-8674-C2830A7FCE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AB1D-A6FB-4FAA-9F99-84F40920E5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68DE-E0F9-4811-9D13-A8A35743F2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E840-BDA6-4F20-A236-453929E5B5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D927-9BA1-41C3-93DC-744630C32C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884E-6A81-45CF-9109-2BB13A8F42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FEAB-D82C-49B1-8A28-78BE03E1EC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D593-619A-4A06-864E-BAD947D276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E76D-8FCF-4E76-ABB8-82E61844FA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0305-1104-43A5-B1A1-1CC818706A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5D08-82D8-4D13-B1EB-7292C71DB4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CB03-7011-4C2C-93F4-AE73E29890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EF82-3E98-40E3-999A-6A81944CDF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6628-F9A9-4F59-8898-ADB2629C67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8E2B-93DB-4CD8-9733-9246386534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5684-F24B-4871-8831-D3DFF29635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C21D-50C6-4019-83F2-8032071BF2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E6E0-9DAA-4203-BAD9-1A65664A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329E-3B8B-4C60-A1E1-5053EDB7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9D1E-F720-4816-8F1D-70877682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D2E8-DECF-4257-8D2B-5777FB49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A5C-E683-4B55-A7A9-31A287F1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31AF-DA85-4578-BC7B-E075D354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4FDC-271C-465A-9A2C-C0C9FA21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6977-8D1D-4208-8C53-0DBAA04D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D0C7-C10B-4FD3-878E-EC04054A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620A-DC7B-4D22-9B1C-C00F1D17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39D3-2085-4235-9D62-36CCF869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C32-57F1-484E-8BFA-C2B89D77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EB44-6DAF-47FA-A9B0-49FCDEDFBA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r.foto.radikal.ru/0703/4c/62848a88ea59.png" TargetMode="External"/><Relationship Id="rId2" Type="http://schemas.openxmlformats.org/officeDocument/2006/relationships/hyperlink" Target="http://s60.radikal.ru/i167/0905/df/b0f13a866051.png" TargetMode="External"/><Relationship Id="rId3" Type="http://schemas.openxmlformats.org/officeDocument/2006/relationships/hyperlink" Target="http://s43.radikal.ru/i100/1001/20/5b7dede1e7dc.png" TargetMode="External"/><Relationship Id="rId4" Type="http://schemas.openxmlformats.org/officeDocument/2006/relationships/hyperlink" Target="http://s59.radikal.ru/i165/1010/56/331c0aa3caaf.png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пустыня"/>
          <p:cNvPicPr/>
          <p:nvPr/>
        </p:nvPicPr>
        <p:blipFill>
          <a:blip r:embed="rId1"/>
          <a:stretch/>
        </p:blipFill>
        <p:spPr>
          <a:xfrm>
            <a:off x="-252360" y="-171360"/>
            <a:ext cx="9396360" cy="70293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5">
            <a:hlinkClick r:id="" action="ppaction://hlinkshowjump?jump=nextslide"/>
          </p:cNvPr>
          <p:cNvSpPr/>
          <p:nvPr/>
        </p:nvSpPr>
        <p:spPr>
          <a:xfrm>
            <a:off x="8244000" y="5805360"/>
            <a:ext cx="576000" cy="792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92360"/>
              <a:gd name="textAreaBottom" fmla="*/ 755280 h 792360"/>
            </a:gdLst>
            <a:ahLst/>
            <a:rect l="textAreaLeft" t="textAreaTop" r="textAreaRight" b="textAreaBottom"/>
            <a:pathLst>
              <a:path w="21600" h="29708">
                <a:moveTo>
                  <a:pt x="0" y="0"/>
                </a:moveTo>
                <a:lnTo>
                  <a:pt x="21600" y="0"/>
                </a:lnTo>
                <a:lnTo>
                  <a:pt x="21600" y="29708"/>
                </a:lnTo>
                <a:lnTo>
                  <a:pt x="0" y="29708"/>
                </a:lnTo>
                <a:close/>
              </a:path>
              <a:path fill="lightenLess" w="21600" h="29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8">
                <a:moveTo>
                  <a:pt x="21600" y="0"/>
                </a:moveTo>
                <a:lnTo>
                  <a:pt x="21600" y="29708"/>
                </a:lnTo>
                <a:lnTo>
                  <a:pt x="20200" y="28308"/>
                </a:lnTo>
                <a:lnTo>
                  <a:pt x="20200" y="1400"/>
                </a:lnTo>
                <a:close/>
              </a:path>
              <a:path fill="darkenLess" w="21600" h="29708">
                <a:moveTo>
                  <a:pt x="21600" y="29708"/>
                </a:moveTo>
                <a:lnTo>
                  <a:pt x="0" y="29708"/>
                </a:lnTo>
                <a:lnTo>
                  <a:pt x="1400" y="28308"/>
                </a:lnTo>
                <a:lnTo>
                  <a:pt x="20200" y="28308"/>
                </a:lnTo>
                <a:close/>
              </a:path>
              <a:path fill="lighten" w="21600" h="29708">
                <a:moveTo>
                  <a:pt x="0" y="29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8"/>
                </a:lnTo>
                <a:close/>
              </a:path>
              <a:path fill="darken" w="21600" h="29708">
                <a:moveTo>
                  <a:pt x="3794" y="7848"/>
                </a:moveTo>
                <a:lnTo>
                  <a:pt x="17806" y="14854"/>
                </a:lnTo>
                <a:lnTo>
                  <a:pt x="3794" y="218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>
            <a:hlinkClick r:id="" action="ppaction://hlinkshowjump?jump=lastslide"/>
          </p:cNvPr>
          <p:cNvSpPr/>
          <p:nvPr/>
        </p:nvSpPr>
        <p:spPr>
          <a:xfrm>
            <a:off x="6804000" y="5950080"/>
            <a:ext cx="936720" cy="6476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36" y="1400"/>
                </a:lnTo>
                <a:lnTo>
                  <a:pt x="1400" y="140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36" y="20200"/>
                </a:lnTo>
                <a:lnTo>
                  <a:pt x="29836" y="140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6" y="2020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36" h="21600">
                <a:moveTo>
                  <a:pt x="156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1236" h="21600">
                <a:moveTo>
                  <a:pt x="16723" y="14281"/>
                </a:moveTo>
                <a:lnTo>
                  <a:pt x="16723" y="12323"/>
                </a:lnTo>
                <a:cubicBezTo>
                  <a:pt x="16723" y="11496"/>
                  <a:pt x="17054" y="10800"/>
                  <a:pt x="17655" y="10800"/>
                </a:cubicBezTo>
                <a:cubicBezTo>
                  <a:pt x="18786" y="10800"/>
                  <a:pt x="19683" y="9434"/>
                  <a:pt x="19683" y="7849"/>
                </a:cubicBezTo>
                <a:cubicBezTo>
                  <a:pt x="19683" y="5534"/>
                  <a:pt x="17829" y="3794"/>
                  <a:pt x="15618" y="3794"/>
                </a:cubicBezTo>
                <a:cubicBezTo>
                  <a:pt x="13407" y="3794"/>
                  <a:pt x="11736" y="5534"/>
                  <a:pt x="11736" y="7849"/>
                </a:cubicBezTo>
                <a:lnTo>
                  <a:pt x="13590" y="7849"/>
                </a:lnTo>
                <a:cubicBezTo>
                  <a:pt x="13590" y="6709"/>
                  <a:pt x="14513" y="5821"/>
                  <a:pt x="15618" y="5821"/>
                </a:cubicBezTo>
                <a:cubicBezTo>
                  <a:pt x="16723" y="5821"/>
                  <a:pt x="17655" y="6709"/>
                  <a:pt x="17655" y="7849"/>
                </a:cubicBezTo>
                <a:cubicBezTo>
                  <a:pt x="17655" y="8589"/>
                  <a:pt x="17185" y="9320"/>
                  <a:pt x="16723" y="9320"/>
                </a:cubicBezTo>
                <a:cubicBezTo>
                  <a:pt x="15618" y="9320"/>
                  <a:pt x="14513" y="10800"/>
                  <a:pt x="14513" y="12323"/>
                </a:cubicBezTo>
                <a:lnTo>
                  <a:pt x="14513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4284720" y="333360"/>
            <a:ext cx="4170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гра – тренаж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971640" y="1557360"/>
            <a:ext cx="77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Умникам и умницам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0" y="5516640"/>
            <a:ext cx="39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Кленова Т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У СОШ №152 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278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280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283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286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89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292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7" dur="indefinite" restart="never" nodeType="tmRoot">
          <p:childTnLst>
            <p:seq>
              <p:cTn id="818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824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6" dur="4745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828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1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32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33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55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56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3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874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7" dur="1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78" dur="1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79" dur="1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000"/>
                            </p:stCondLst>
                            <p:childTnLst>
                              <p:par>
                                <p:cTn id="89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2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897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0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01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2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5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05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307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310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313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316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319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9" dur="indefinite" restart="never" nodeType="tmRoot">
          <p:childTnLst>
            <p:seq>
              <p:cTn id="92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92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926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8" dur="4745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9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930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34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35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8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953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6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57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58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000"/>
                            </p:stCondLst>
                            <p:childTnLst>
                              <p:par>
                                <p:cTn id="97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1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5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976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80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81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4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999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2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03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04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32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334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337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340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343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346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1" dur="indefinite" restart="never" nodeType="tmRoot">
          <p:childTnLst>
            <p:seq>
              <p:cTn id="1022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023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1028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0" dur="4745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1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032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5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36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37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4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055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8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59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0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078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1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82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3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6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0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4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05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06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9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59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361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364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367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370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373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3" dur="indefinite" restart="never" nodeType="tmRoot">
          <p:childTnLst>
            <p:seq>
              <p:cTn id="1124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125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1130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2" dur="4745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7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38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39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6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157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0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61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62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9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180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3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84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5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8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2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203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6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07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08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86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388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391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394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397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400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5" dur="indefinite" restart="never" nodeType="tmRoot">
          <p:childTnLst>
            <p:seq>
              <p:cTn id="122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227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0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31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32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5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9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250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3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54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5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273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77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78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1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5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296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9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00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1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4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1319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1324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6" dur="4745" fill="hold"/>
                                        <p:tgtEl>
                                          <p:spTgt spid="4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13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415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418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421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424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427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3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7" dur="indefinite" restart="never" nodeType="tmRoot">
          <p:childTnLst>
            <p:seq>
              <p:cTn id="1328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1329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3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1334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6" dur="4745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7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338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1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42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43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8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0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65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66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9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384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7" dur="1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88" dur="1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89" dur="1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2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6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407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0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11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12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5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37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40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+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442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445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448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451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454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9" dur="indefinite" restart="never" nodeType="tmRoot">
          <p:childTnLst>
            <p:seq>
              <p:cTn id="1430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431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1436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8" dur="4745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9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440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3" dur="1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44" dur="1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45" dur="1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8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2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463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6" dur="1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67" dur="1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68" dur="1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1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5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1486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9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90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91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4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8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1509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13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14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7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67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+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469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472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475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478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481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1" dur="indefinite" restart="never" nodeType="tmRoot">
          <p:childTnLst>
            <p:seq>
              <p:cTn id="1532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533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1538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0" dur="4745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1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542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5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46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47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0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4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565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8" dur="1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69" dur="1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0" dur="1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3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7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588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92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93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6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0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611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4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15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16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9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1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94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496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499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502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505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508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3" dur="indefinite" restart="never" nodeType="tmRoot">
          <p:childTnLst>
            <p:seq>
              <p:cTn id="1634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635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8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39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40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3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1658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62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63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6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0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681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4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85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86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9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3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704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7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08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09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2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6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727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1732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4" dur="4745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521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523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526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529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532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535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41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5" dur="indefinite" restart="never" nodeType="tmRoot">
          <p:childTnLst>
            <p:seq>
              <p:cTn id="1736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737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0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1742" dur="2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4" dur="4745" fill="hold"/>
                                        <p:tgtEl>
                                          <p:spTgt spid="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5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746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9" dur="1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50" dur="1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51" dur="1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4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6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8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769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2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73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74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7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1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1792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5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96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7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0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4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815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8" dur="1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19" dur="1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0" dur="1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3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2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64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7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70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73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76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474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3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5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6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548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550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553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556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559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562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7" dur="indefinite" restart="never" nodeType="tmRoot">
          <p:childTnLst>
            <p:seq>
              <p:cTn id="1838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839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1844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6" dur="4745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7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848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1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52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53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0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871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4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75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76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1894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98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99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2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6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917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0" dur="1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21" dur="1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22" dur="1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5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575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577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580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583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586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589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9" dur="indefinite" restart="never" nodeType="tmRoot">
          <p:childTnLst>
            <p:seq>
              <p:cTn id="1940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941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4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45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46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9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3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964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7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68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9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2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6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987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0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91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2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5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9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2010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3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14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15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8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2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2033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2038" dur="2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0" dur="4745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02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604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07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610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13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616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1" dur="indefinite" restart="never" nodeType="tmRoot">
          <p:childTnLst>
            <p:seq>
              <p:cTn id="2042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2043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2048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0" dur="4745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1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2052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5" dur="1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56" dur="1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57" dur="1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0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4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2075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8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79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80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3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9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7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2098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1" dur="1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02" dur="1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03" dur="1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6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0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2121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4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25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26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9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26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29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631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34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637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40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643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3" dur="indefinite" restart="never" nodeType="tmRoot">
          <p:childTnLst>
            <p:seq>
              <p:cTn id="2144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2145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2150" dur="2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2" dur="4745" fill="hold"/>
                                        <p:tgtEl>
                                          <p:spTgt spid="6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3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2154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7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58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59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2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6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2177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0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81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82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5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9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2200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3" dur="1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04" dur="1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05" dur="1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8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2" restart="whenNotActive" nodeType="interactiveSeq" fill="hold">
                <p:stCondLst>
                  <p:cond evt="onClick">
                    <p:tgtEl>
                      <p:spTgt spid="636"/>
                    </p:tgtEl>
                  </p:cond>
                </p:stCondLst>
                <p:childTnLst>
                  <p:par>
                    <p:cTn id="2223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6" dur="1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27" dur="1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28" dur="1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1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53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56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658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61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664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67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670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5" dur="indefinite" restart="never" nodeType="tmRoot">
          <p:childTnLst>
            <p:seq>
              <p:cTn id="2246" restart="whenNotActive" nodeType="interactiveSeq" fill="hold">
                <p:stCondLst>
                  <p:cond evt="onClick">
                    <p:tgtEl>
                      <p:spTgt spid="657"/>
                    </p:tgtEl>
                  </p:cond>
                </p:stCondLst>
                <p:childTnLst>
                  <p:par>
                    <p:cTn id="2247" fill="hold">
                      <p:stCondLst>
                        <p:cond evt="onClick">
                          <p:tgtEl>
                            <p:spTgt spid="657"/>
                          </p:tgtEl>
                        </p:cond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0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2252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4" dur="4745" fill="hold"/>
                                        <p:tgtEl>
                                          <p:spTgt spid="6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5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2256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9" dur="1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60" dur="1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61" dur="1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4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8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2279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2" dur="1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83" dur="1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84" dur="1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7" dur="5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5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1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2302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5" dur="1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06" dur="1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7" dur="1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0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4" restart="whenNotActive" nodeType="interactiveSeq" fill="hold">
                <p:stCondLst>
                  <p:cond evt="onClick">
                    <p:tgtEl>
                      <p:spTgt spid="669"/>
                    </p:tgtEl>
                  </p:cond>
                </p:stCondLst>
                <p:childTnLst>
                  <p:par>
                    <p:cTn id="2325" fill="hold">
                      <p:stCondLst>
                        <p:cond evt="onClick">
                          <p:tgtEl>
                            <p:spTgt spid="669"/>
                          </p:tgtEl>
                        </p:cond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8" dur="1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29" dur="1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30" dur="1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3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83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+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685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688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691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94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697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7" dur="indefinite" restart="never" nodeType="tmRoot">
          <p:childTnLst>
            <p:seq>
              <p:cTn id="2348" restart="whenNotActive" nodeType="interactiveSeq" fill="hold">
                <p:stCondLst>
                  <p:cond evt="onClick">
                    <p:tgtEl>
                      <p:spTgt spid="687"/>
                    </p:tgtEl>
                  </p:cond>
                </p:stCondLst>
                <p:childTnLst>
                  <p:par>
                    <p:cTn id="2349" fill="hold">
                      <p:stCondLst>
                        <p:cond evt="onClick">
                          <p:tgtEl>
                            <p:spTgt spid="687"/>
                          </p:tgtEl>
                        </p:cond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2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53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54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7" dur="5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5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1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2372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5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76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77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0" dur="5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5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4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2395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8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99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00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3" dur="5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5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1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7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2418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1" dur="1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22" dur="1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23" dur="1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6" dur="5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5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0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2441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44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2446" dur="20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8" dur="4745" fill="hold"/>
                                        <p:tgtEl>
                                          <p:spTgt spid="7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нтернет - 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ис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.foto.radikal.ru/0703/4c/62848a88ea59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Черепах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60.radikal.ru/i167/0905/df/b0f13a86605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ышк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43.radikal.ru/i100/1001/20/5b7dede1e7dc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Жираф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59.radikal.ru/i165/1010/56/331c0aa3caaf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ара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s59.radikal.ru/i166/0903/59/7431a707a57a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ерблюд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http://www.elephant.ru/images/toys/190/500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устын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http://www.pcservicespb.ru/wallpaper/wallpaper/pustosh/1280/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пуга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s003.radikal.ru/i201/1010/90/a084e16c5d96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онвер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s11.radikal.ru/i183/0908/61/ef01b4e7d546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4">
            <a:hlinkClick r:id="" action="ppaction://hlinkshowjump?jump=firstslide"/>
          </p:cNvPr>
          <p:cNvSpPr/>
          <p:nvPr/>
        </p:nvSpPr>
        <p:spPr>
          <a:xfrm>
            <a:off x="7740720" y="5950080"/>
            <a:ext cx="934920" cy="718920"/>
          </a:xfrm>
          <a:custGeom>
            <a:avLst/>
            <a:gdLst>
              <a:gd name="textAreaLeft" fmla="*/ 46440 w 934920"/>
              <a:gd name="textAreaRight" fmla="*/ 888480 w 934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086" h="21600">
                <a:moveTo>
                  <a:pt x="0" y="0"/>
                </a:moveTo>
                <a:lnTo>
                  <a:pt x="28086" y="0"/>
                </a:lnTo>
                <a:lnTo>
                  <a:pt x="28086" y="21600"/>
                </a:lnTo>
                <a:lnTo>
                  <a:pt x="0" y="21600"/>
                </a:lnTo>
                <a:close/>
              </a:path>
              <a:path fill="lightenLess" w="28086" h="21600">
                <a:moveTo>
                  <a:pt x="0" y="0"/>
                </a:moveTo>
                <a:lnTo>
                  <a:pt x="28086" y="0"/>
                </a:lnTo>
                <a:lnTo>
                  <a:pt x="26686" y="1400"/>
                </a:lnTo>
                <a:lnTo>
                  <a:pt x="1400" y="1400"/>
                </a:lnTo>
                <a:close/>
              </a:path>
              <a:path fill="darken" w="28086" h="21600">
                <a:moveTo>
                  <a:pt x="28086" y="0"/>
                </a:moveTo>
                <a:lnTo>
                  <a:pt x="28086" y="21600"/>
                </a:lnTo>
                <a:lnTo>
                  <a:pt x="26686" y="20200"/>
                </a:lnTo>
                <a:lnTo>
                  <a:pt x="26686" y="1400"/>
                </a:lnTo>
                <a:close/>
              </a:path>
              <a:path fill="darkenLess" w="28086" h="21600">
                <a:moveTo>
                  <a:pt x="28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6" y="20200"/>
                </a:lnTo>
                <a:close/>
              </a:path>
              <a:path fill="lighten" w="28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6" h="21600">
                <a:moveTo>
                  <a:pt x="14043" y="3837"/>
                </a:moveTo>
                <a:lnTo>
                  <a:pt x="16620" y="6448"/>
                </a:lnTo>
                <a:lnTo>
                  <a:pt x="16620" y="4707"/>
                </a:lnTo>
                <a:lnTo>
                  <a:pt x="18395" y="4707"/>
                </a:lnTo>
                <a:lnTo>
                  <a:pt x="18395" y="8224"/>
                </a:lnTo>
                <a:lnTo>
                  <a:pt x="21006" y="10800"/>
                </a:lnTo>
                <a:lnTo>
                  <a:pt x="19353" y="10800"/>
                </a:lnTo>
                <a:lnTo>
                  <a:pt x="19353" y="17989"/>
                </a:lnTo>
                <a:lnTo>
                  <a:pt x="8734" y="17989"/>
                </a:lnTo>
                <a:lnTo>
                  <a:pt x="8734" y="10800"/>
                </a:lnTo>
                <a:lnTo>
                  <a:pt x="7080" y="10800"/>
                </a:lnTo>
                <a:close/>
              </a:path>
              <a:path fill="darkenLess" w="28086" h="21600">
                <a:moveTo>
                  <a:pt x="16620" y="6448"/>
                </a:moveTo>
                <a:lnTo>
                  <a:pt x="16620" y="4707"/>
                </a:lnTo>
                <a:lnTo>
                  <a:pt x="18395" y="4707"/>
                </a:lnTo>
                <a:lnTo>
                  <a:pt x="18395" y="8224"/>
                </a:lnTo>
                <a:close/>
              </a:path>
              <a:path fill="darkenLess" w="28086" h="21600">
                <a:moveTo>
                  <a:pt x="13121" y="14299"/>
                </a:moveTo>
                <a:lnTo>
                  <a:pt x="14966" y="14299"/>
                </a:lnTo>
                <a:lnTo>
                  <a:pt x="14966" y="17989"/>
                </a:lnTo>
                <a:lnTo>
                  <a:pt x="19353" y="17989"/>
                </a:lnTo>
                <a:lnTo>
                  <a:pt x="19353" y="10800"/>
                </a:lnTo>
                <a:lnTo>
                  <a:pt x="8734" y="10800"/>
                </a:lnTo>
                <a:lnTo>
                  <a:pt x="8734" y="17989"/>
                </a:lnTo>
                <a:lnTo>
                  <a:pt x="1312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89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91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94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97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100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103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9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0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2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3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5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20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4745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16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118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121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124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127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130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21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474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0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1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3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6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7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9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0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43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145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148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151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154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157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314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4745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2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3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6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8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9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1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2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70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172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175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178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181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184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41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4745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4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5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7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8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0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1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93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4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97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199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202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205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08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211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518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0" dur="4745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26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2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49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0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1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72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3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5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6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224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+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226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229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232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35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238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3" dur="indefinite" restart="never" nodeType="tmRoot">
          <p:childTnLst>
            <p:seq>
              <p:cTn id="614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19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20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1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42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3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6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6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6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3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684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7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88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89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712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4" dur="4745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251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253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256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259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62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265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5" dur="indefinite" restart="never" nodeType="tmRoot">
          <p:childTnLst>
            <p:seq>
              <p:cTn id="716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722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4" dur="4745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9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30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31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2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53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4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5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76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7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795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8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99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00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3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0:05:02Z</dcterms:created>
  <dc:creator>user</dc:creator>
  <dc:description/>
  <dc:language>en-US</dc:language>
  <cp:lastModifiedBy>Юрий</cp:lastModifiedBy>
  <dcterms:modified xsi:type="dcterms:W3CDTF">2011-04-02T08:13:59Z</dcterms:modified>
  <cp:revision>64</cp:revision>
  <dc:subject/>
  <dc:title>Слайд 1</dc:title>
</cp:coreProperties>
</file>